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2B6-F878-4F6B-8006-A6B1C790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0DC-C4C0-424C-B61F-CDBDF43F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429-CB99-4368-9FF7-7B082589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4FA-6853-4688-84A1-3146BD0D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BB4-2F63-4262-83DE-E96DE384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0C8-5200-49CC-8247-15BE5959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CDC-8EBF-4BEA-A7FD-871AF1BC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917-4011-4C6F-8417-802DCAF2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0EB-D19D-4142-A9EA-E58D09C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9A9-8604-4E75-8F52-AAE273C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87C-AFDA-4522-A2F9-A22A309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7EA-0006-4EE5-833E-C4CE2C62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F70CC-9D63-498A-AC7E-77AF3CFC8B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73D13-316A-4290-94A4-B50D6DCD08F3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7:44:37Z</dcterms:created>
  <dc:creator>최봉수</dc:creator>
  <dc:description/>
  <dc:language>en-US</dc:language>
  <cp:lastModifiedBy>맛있다 군만두</cp:lastModifiedBy>
  <dcterms:modified xsi:type="dcterms:W3CDTF">2024-09-24T08:12:45Z</dcterms:modified>
  <cp:revision>4</cp:revision>
  <dc:subject/>
  <dc:title>슬라이드 1</dc:title>
</cp:coreProperties>
</file>