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677-E796-495C-85F9-B0277C68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8E5-05A3-41BF-AA18-C70D25B8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F53-F3E1-4340-9BA8-3B693D32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491-5037-49DB-8A9F-E998FDDF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53A-4EC8-4E0F-9781-45802EE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EEF-A704-4D18-BE67-0172125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CFB-BCA1-45CA-84D4-64B1C91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C7-F31D-4AA5-9045-7B530A06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E04-0602-4E9B-ABE6-E3EF40C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F28-E4E7-4B44-BDB2-AB52854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59F-33B4-45E6-BC56-CB70552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834-CA92-4B08-AFF1-60EECD92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689DC-4D2B-4A06-83CA-31CDFEF937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5B49D-DB72-4986-AA64-79D9D7CD21F8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44:37Z</dcterms:created>
  <dc:creator>최봉수</dc:creator>
  <dc:description/>
  <dc:language>en-US</dc:language>
  <cp:lastModifiedBy>맛있다 군만두</cp:lastModifiedBy>
  <dcterms:modified xsi:type="dcterms:W3CDTF">2024-09-24T08:12:45Z</dcterms:modified>
  <cp:revision>4</cp:revision>
  <dc:subject/>
  <dc:title>슬라이드 1</dc:title>
</cp:coreProperties>
</file>