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ABC-5010-4EEE-84B8-344A4037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4E8-DC6B-4EA9-8056-2ED671D1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207D-282B-40F1-87AA-3DB5CCB3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A8C-23B2-4842-A06C-C2F3D3DC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94BF-AEFB-49A5-8C59-E0E896DA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54B-E90A-47DF-AE88-48956B25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C8FC-D3C0-4CE1-B11A-36E9ACC8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35D7-6661-46D4-8199-C016043A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124D-1110-4AE2-8C36-C970E125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3501-2C7F-4A38-B66C-B4F0FDCA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7E2-74FB-4C86-91EF-4D8E1D2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5D8-DEE7-4E47-AE5F-76B673C6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C96-7B29-45A5-AF2C-37C858C5A85D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6476760" cy="18288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Times New Roman"/>
              </a:rPr>
              <a:t>1.6-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56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3400" spc="-1" strike="noStrike">
                <a:solidFill>
                  <a:srgbClr val="ff0000"/>
                </a:solidFill>
                <a:latin typeface="Arial"/>
              </a:rPr>
              <a:t>Wellbore Hydraulics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0000"/>
                </a:solidFill>
                <a:latin typeface="Arial"/>
              </a:rPr>
              <a:t>Pressure Drop Calculations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581280"/>
            <a:ext cx="6476760" cy="2514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B85-92F2-4D3A-A249-293F52F38D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5105160" cy="7621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10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- 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914040" y="12949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t 10,000 ft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op of coll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= W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- F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- F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= 147 lbm/ft * 600 ft - 357,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= 88,200 - 357,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= -269,000 lbf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1880" y="685800"/>
            <a:ext cx="3049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3200400"/>
            <a:ext cx="457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429760" y="685800"/>
            <a:ext cx="199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3124080"/>
            <a:ext cx="0" cy="1067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89480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42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42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94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7260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6764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19360" y="251460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16400" y="2236680"/>
            <a:ext cx="177336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BI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E86-27F3-4676-BCD6-830CCE6BF0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51920" y="16765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t 10,000 ft</a:t>
            </a:r>
            <a:r>
              <a:rPr b="0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ottom of drillpi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= W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+W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+F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-F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-F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= 88,200 + 7800 lbf/in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* 37.5in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357,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= 88,200 + 292,500 - 357,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= + 23,500 lb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1880" y="685800"/>
            <a:ext cx="3049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05920" y="3200400"/>
            <a:ext cx="457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429760" y="685800"/>
            <a:ext cx="199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534520" y="3124080"/>
            <a:ext cx="0" cy="1067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9480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42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42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94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7260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6764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5486400" cy="7621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11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- 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AEA3-DDE0-4A5A-8DC2-174A37D9C6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 Su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= W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+ W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F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F</a:t>
            </a:r>
            <a:r>
              <a:rPr b="0" lang="en-US" sz="3200" spc="-1" strike="noStrike" baseline="-25000">
                <a:solidFill>
                  <a:srgbClr val="cc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cc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= 19.5 * 10,000 +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88,200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+ 292,500 - 357,200 -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= 218,500 lb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ternatively:  F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= W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Arial"/>
              </a:rPr>
              <a:t>AIR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* B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= 283,200 * 0.7710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= 218,345  lb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685800"/>
            <a:ext cx="3049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05920" y="3200400"/>
            <a:ext cx="457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429760" y="685800"/>
            <a:ext cx="199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34520" y="3124080"/>
            <a:ext cx="0" cy="1067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9480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742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42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94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7260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6764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5790960" cy="76212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1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- 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4E4F-2DFB-48E6-BE4B-694137FB8A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9.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76320" y="617220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ig. 4-11. Axial tensions as a function of depth for Example 4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E9EA-BC39-4A2D-9AF0-BC3790106E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solidFill>
            <a:srgbClr val="cc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14 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Axial Load with    F</a:t>
            </a:r>
            <a:r>
              <a:rPr b="1" lang="en-US" sz="3600" spc="-1" strike="noStrike" baseline="-25000">
                <a:solidFill>
                  <a:srgbClr val="00cc00"/>
                </a:solidFill>
                <a:latin typeface="Arial"/>
              </a:rPr>
              <a:t>BIT</a:t>
            </a:r>
            <a:r>
              <a:rPr b="1" lang="en-US" sz="3600" spc="-1" strike="noStrike">
                <a:solidFill>
                  <a:srgbClr val="00cc00"/>
                </a:solidFill>
                <a:latin typeface="Arial"/>
              </a:rPr>
              <a:t>  =  68,000 lb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BF8-302C-4192-B978-1453073BC4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2 </a:t>
            </a:r>
            <a:r>
              <a:rPr b="1" i="1" lang="en-US" sz="4400" spc="-1" strike="noStrike">
                <a:solidFill>
                  <a:srgbClr val="ff0000"/>
                </a:solidFill>
                <a:latin typeface="Tahoma"/>
              </a:rPr>
              <a:t>Wellbore Hydraul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5791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ydrost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uoy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ipe Tension vs. Dep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ffect of Mud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Laminar and Turbulent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essure Drop Calc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ingham Plastic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I Power-Law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D8FC-894B-4FCD-8379-2AE2F227A7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3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uoyancy Force = weight of fluid displace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(Archimedes, 250 B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248520"/>
            <a:ext cx="891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Figure 4-9. Hydraulic forces acting on a submerged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9.10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09F-C0B3-4708-83CB-4D0B2851F5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6477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4 Effective (buoyed) We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160" y="4419720"/>
                <a:ext cx="4633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2362320" y="3962520"/>
            <a:ext cx="495288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627280" y="4038480"/>
                <a:ext cx="39258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4344480" y="541008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uoyancy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1080" y="6172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alid for a solid body or an open-ended pip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41008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1523880"/>
                <a:ext cx="2419560" cy="21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-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V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W-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7400" y="1258920"/>
            <a:ext cx="2881080" cy="249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buoyed 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 = weight in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buoyancy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 = volume of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fluid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= body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229-D847-41B3-B705-F6B744132A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V="1">
            <a:off x="5105520" y="5028840"/>
            <a:ext cx="1523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2280" y="533520"/>
          <a:ext cx="899172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9917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80920" y="228600"/>
            <a:ext cx="4876920" cy="533520"/>
          </a:xfrm>
          <a:prstGeom prst="rect">
            <a:avLst/>
          </a:prstGeom>
          <a:solidFill>
            <a:srgbClr val="ffff66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xial Forces in Drill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74040" y="990720"/>
            <a:ext cx="3485160" cy="78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= bit 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&amp; F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are pressure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A2E-1E34-4A80-8E3F-69F2AD8BB1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6 Axial Tension in Drill St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360" y="11426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ill string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,000 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9.5 #/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illpip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00 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47 #/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rill coll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ded off bottom i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5#/g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it weight = 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at is the axial tension in 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rillstring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s a function of depth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AE9-1031-41CD-B203-F6FE17BA69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4876920" cy="761760"/>
          </a:xfrm>
          <a:prstGeom prst="rect">
            <a:avLst/>
          </a:prstGeom>
          <a:solidFill>
            <a:srgbClr val="ffff66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7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at top of coll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52 (15) 10,000  =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7,800 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ure at bottom of coll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52 (15) 10,600  =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8,268 p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ross-sectional area of pip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5227560"/>
                <a:ext cx="563868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den>
                        </m:f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0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t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4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924680" y="1447920"/>
            <a:ext cx="76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6080" y="4343400"/>
            <a:ext cx="1204920" cy="1752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304920"/>
            <a:ext cx="838080" cy="838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96320" y="37800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03920" y="411480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,000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3920" y="594360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,600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72600" y="4343400"/>
            <a:ext cx="38088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91360" y="4114800"/>
            <a:ext cx="3812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58280" y="4280040"/>
            <a:ext cx="457200" cy="182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56720" y="1425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56E-C312-4308-9F9B-A9FCBEC8FF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oss-sectional area of collar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" y="2666880"/>
                <a:ext cx="5105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0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4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85800" y="4648320"/>
                <a:ext cx="48736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ifferential are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467480" y="3733920"/>
            <a:ext cx="1219320" cy="121896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99600" y="3902040"/>
            <a:ext cx="605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5960" y="152280"/>
            <a:ext cx="838080" cy="83844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43680" y="95400"/>
            <a:ext cx="592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96080" y="1295280"/>
            <a:ext cx="76212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0120" y="1752480"/>
            <a:ext cx="990360" cy="1752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72400" y="1523880"/>
            <a:ext cx="60948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96240" y="4148280"/>
            <a:ext cx="380880" cy="3808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29600" y="1676520"/>
            <a:ext cx="4572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481880" y="1676520"/>
            <a:ext cx="442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80880"/>
            <a:ext cx="5181480" cy="762120"/>
          </a:xfrm>
          <a:prstGeom prst="rect">
            <a:avLst/>
          </a:prstGeom>
          <a:solidFill>
            <a:srgbClr val="ffff66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8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 –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0D26-3D59-4B31-8F57-97C2D71B4D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t 10,600 f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ottom of drill colla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ve force =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357,200 lb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 axial tension =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- 357,200 lb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209680" y="3200400"/>
                <a:ext cx="403884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8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8381880" y="685800"/>
            <a:ext cx="30492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05920" y="3200400"/>
            <a:ext cx="4572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429760" y="685800"/>
            <a:ext cx="1998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34520" y="3124080"/>
            <a:ext cx="0" cy="10670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94800" y="533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4200" y="28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42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948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9456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6764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304920"/>
            <a:ext cx="5334120" cy="761760"/>
          </a:xfrm>
          <a:prstGeom prst="rect">
            <a:avLst/>
          </a:prstGeom>
          <a:solidFill>
            <a:srgbClr val="ffff66"/>
          </a:solidFill>
          <a:ln w="381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6-9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Example  - 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8B35-EA3F-42C4-BBD8-757778C07A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5:30:19Z</dcterms:created>
  <dc:creator>Petroleum Engineering</dc:creator>
  <dc:description/>
  <dc:language>en-US</dc:language>
  <cp:lastModifiedBy>Jerome Schubert</cp:lastModifiedBy>
  <cp:lastPrinted>2001-09-09T19:15:25Z</cp:lastPrinted>
  <dcterms:modified xsi:type="dcterms:W3CDTF">2003-10-30T17:14:00Z</dcterms:modified>
  <cp:revision>72</cp:revision>
  <dc:subject/>
  <dc:title>PETROLEUM ENGINEERING 405</dc:title>
</cp:coreProperties>
</file>