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5B9-362C-4A84-9EEE-40E7749F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B40-8BB4-43B6-87A6-79D000DB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DB2-93FB-4988-A3C1-276796F7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94D-27FE-4E4E-9981-F9495800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10F-C876-41AD-B499-196BC562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9EA-23C2-443D-82EC-51864B6F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9C7-D13E-4890-B726-3875B7D5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CA6-DBC5-432C-8912-79D66F10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D2A-94E8-4891-9926-918D4670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478-A926-41D8-A39F-157F92E9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610-8861-46A6-BDD7-7E17C942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5DD-EC8C-4056-901E-E1B8FB58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F53DB-1235-4DD0-B401-F71E5FD6323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38C64-C558-4355-8C3F-BEFC83EC59BB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4:50:58Z</dcterms:created>
  <dc:creator>최봉수</dc:creator>
  <dc:description/>
  <dc:language>en-US</dc:language>
  <cp:lastModifiedBy>맛있다 군만두</cp:lastModifiedBy>
  <dcterms:modified xsi:type="dcterms:W3CDTF">2023-07-13T07:22:18Z</dcterms:modified>
  <cp:revision>4</cp:revision>
  <dc:subject/>
  <dc:title>슬라이드 1</dc:title>
</cp:coreProperties>
</file>