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F34-751D-4001-8314-27476D2C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828-FBF4-402D-A66C-4339F864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447-2929-48CA-AAF9-8A217D7D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72C-7624-4BF1-98B0-082904C7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742-2279-4E97-8AC1-0BDD8098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F06-3D3B-4183-A37F-E91B769E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D30-5319-441E-B972-8BC29F73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0FE-2E46-45CA-9295-55B3A329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F68-D3A0-4702-A7EC-D73F2331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A8C-C3DF-414E-B772-836043F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5C4-F2E7-4E5E-AB1E-8770FCD8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D87-1155-4F33-A5DE-C4064CD0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8D4E3-F682-4DF4-8D5D-39CC48CCCF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664B0-1056-46A9-B28A-A12F7BBA7566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50:58Z</dcterms:created>
  <dc:creator>최봉수</dc:creator>
  <dc:description/>
  <dc:language>en-US</dc:language>
  <cp:lastModifiedBy>맛있다 군만두</cp:lastModifiedBy>
  <dcterms:modified xsi:type="dcterms:W3CDTF">2023-07-13T07:22:18Z</dcterms:modified>
  <cp:revision>4</cp:revision>
  <dc:subject/>
  <dc:title>슬라이드 1</dc:title>
</cp:coreProperties>
</file>