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B67-0176-4700-913C-356C5A32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EF3-9E6D-47FE-9F6D-BE7827FB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0A1-9D38-4F39-935F-9AA5D54F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F9B-5ED1-428A-AE7C-96800721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62A-FDA9-4739-AA65-AAFE06EE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7AB-9989-43F2-8B31-ADD7044A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173-AB4B-4F9A-B0D0-FD774254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3A5-D329-4133-BAAC-ECA2403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B28-285D-458C-916C-C24E94AC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7FD-33C8-460F-885B-DDEDE1A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EBF-0336-4A00-9049-7FFD24C1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CF8-C59D-493C-8D74-77D3EE3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070B6-BA51-4BD9-A4CF-AD0F1D86D5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4247E-81B9-4DD7-B47C-54770112EF7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14:58Z</dcterms:created>
  <dc:creator>최봉수</dc:creator>
  <dc:description/>
  <dc:language>en-US</dc:language>
  <cp:lastModifiedBy>맛있다 군만두</cp:lastModifiedBy>
  <dcterms:modified xsi:type="dcterms:W3CDTF">2023-07-13T10:39:42Z</dcterms:modified>
  <cp:revision>3</cp:revision>
  <dc:subject/>
  <dc:title>슬라이드 1</dc:title>
</cp:coreProperties>
</file>