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2A02-C62C-402A-94FF-37C2BACA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E87F-76CA-4E26-BFEA-25C5199E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2B94-EA49-49F4-8F21-168C14FF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094-7F5F-490F-8DE0-835FAC42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863-6918-436C-8386-7BFC9A81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D20F-CCE1-449A-A8AF-F02BE119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A85F-492F-425B-A47A-8522FBDE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88B2-66BD-406C-ADDA-ECB305DD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A0B-9414-4B78-AB42-9B8E3C3C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07E-54A3-4214-B390-2BCE526D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25A7-3BC9-4932-AE8B-E357879B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2D8B-0DA9-46C1-A222-0032CEA6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71AB8-0F16-4FD5-B974-F5BBF6ADF13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2A9B4-A784-4553-A33A-AA54CD9A0182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5:14:58Z</dcterms:created>
  <dc:creator>최봉수</dc:creator>
  <dc:description/>
  <dc:language>en-US</dc:language>
  <cp:lastModifiedBy>맛있다 군만두</cp:lastModifiedBy>
  <dcterms:modified xsi:type="dcterms:W3CDTF">2023-07-13T10:39:42Z</dcterms:modified>
  <cp:revision>3</cp:revision>
  <dc:subject/>
  <dc:title>슬라이드 1</dc:title>
</cp:coreProperties>
</file>