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E6D5-FB8B-4535-B628-A1F4A9D426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3ED5-98E6-4357-A23B-66590452A5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594-3CDC-4C88-BF1F-7CE30540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932-8C5B-4890-84EB-2F9D1DF3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B49-7307-4C19-9823-B59E1D61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9CA-9C13-435B-8940-947DF15C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51C-F1D4-49BE-81D0-8F419AB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6A3-E9BF-49B0-AA13-E0AB3D83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3F4-2A5D-4FA1-853C-DF19EE5B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A17-7157-44E2-92FC-6ADD0869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1E3-2B50-4B1F-B6C5-E390C25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C52-4C86-4A3C-AAAB-3F33359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BDA-9742-484C-8F0B-BCF8F9C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E3C-EB83-4528-A379-0997A6B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26A-295E-451B-BAC8-2049727E390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8T20:11:51Z</dcterms:modified>
  <cp:revision>24</cp:revision>
  <dc:subject/>
  <dc:title>슬라이드 1</dc:title>
</cp:coreProperties>
</file>