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793E-0062-43B1-A799-3ADAB74F16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B64-272D-4EE8-A6F6-B9A1097CC53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1AF-A032-420D-B85D-A5DC7E5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A46-8FFB-4A25-95FA-4CBB4923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CB2-79E3-4165-A768-0B23E130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EBB-5AE3-4FCF-8562-17525803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41E-57F1-4EF8-A667-A6026DD7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F4F-4042-4917-918E-3FE4D8AE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B34-8F9E-4357-9D28-C5238E06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99A-8564-4250-BAB7-77523C0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0C1-9B3F-4735-86CB-C6BFD29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414-7E03-4DD9-83A3-549E10B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6BB-E4A3-43C8-9E31-4F0139D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D0F-99A3-43B1-92B7-049D208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A4C-9D12-440B-A8AA-6869D07B22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8T20:11:51Z</dcterms:modified>
  <cp:revision>24</cp:revision>
  <dc:subject/>
  <dc:title>슬라이드 1</dc:title>
</cp:coreProperties>
</file>