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54.gif" ContentType="image/gif"/>
  <Override PartName="/ppt/media/Harpe%20Le%20Monde-6.13.wav" ContentType="audio/x-wav"/>
  <Override PartName="/ppt/media/image26.jpeg" ContentType="image/jpeg"/>
  <Override PartName="/ppt/media/image5.jpeg" ContentType="image/jpeg"/>
  <Override PartName="/ppt/media/image3.gif" ContentType="image/gif"/>
  <Override PartName="/ppt/media/image25.jpeg" ContentType="image/jpeg"/>
  <Override PartName="/ppt/media/image2.png" ContentType="image/png"/>
  <Override PartName="/ppt/media/image4.jpeg" ContentType="image/jpeg"/>
  <Override PartName="/ppt/media/image34.jpeg" ContentType="image/jpeg"/>
  <Override PartName="/ppt/media/image37.jpeg" ContentType="image/jpeg"/>
  <Override PartName="/ppt/media/image12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46.jpeg" ContentType="image/jpeg"/>
  <Override PartName="/ppt/media/image53.gif" ContentType="image/gif"/>
  <Override PartName="/ppt/media/image56.png" ContentType="image/png"/>
  <Override PartName="/ppt/media/image45.jpeg" ContentType="image/jpeg"/>
  <Override PartName="/ppt/media/image55.gif" ContentType="image/gif"/>
  <Override PartName="/ppt/media/image28.jpeg" ContentType="image/jpeg"/>
  <Override PartName="/ppt/media/image51.jpeg" ContentType="image/jpeg"/>
  <Override PartName="/ppt/media/image36.jpeg" ContentType="image/jpeg"/>
  <Override PartName="/ppt/media/image11.jpeg" ContentType="image/jpeg"/>
  <Override PartName="/ppt/media/image33.jpeg" ContentType="image/jpeg"/>
  <Override PartName="/ppt/media/image6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27.jpeg" ContentType="image/jpeg"/>
  <Override PartName="/ppt/media/image50.jpeg" ContentType="image/jpeg"/>
  <Override PartName="/ppt/media/image52.png" ContentType="image/pn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93CA-3A5E-46E8-9999-EE99309CC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A095-7675-4FA5-BA46-60AB749A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8BB8-91E0-45F5-A36F-9B94B5F1D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F3F3-3674-46AB-B431-D9818E55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729A-4277-4494-ABC6-668FE7F6F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A5B44-791E-4410-B9DB-C0825E39B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6F621-B6D1-455D-8E84-A05E8D486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FAEF-A6A0-4793-BE26-37B3D1A86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DEE3-EAA7-44EF-9B67-3B3BF39CF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B631-EA48-4454-ADC6-E9BBA562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6E56-7F22-498E-B3F1-4C5FA694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8993-A446-4AC2-B690-0F0D5ED2A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9BFEE-9794-478A-A56C-BBCB9B7AB9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audio" Target="../media/Harpe%20Le%20Monde-6.13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log.atmospheres.be/" TargetMode="External"/><Relationship Id="rId2" Type="http://schemas.openxmlformats.org/officeDocument/2006/relationships/hyperlink" Target="http://blog.atmospheres.be/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image" Target="../media/image53.gif"/><Relationship Id="rId4" Type="http://schemas.openxmlformats.org/officeDocument/2006/relationships/image" Target="../media/image53.gif"/><Relationship Id="rId5" Type="http://schemas.openxmlformats.org/officeDocument/2006/relationships/image" Target="../media/image54.gif"/><Relationship Id="rId6" Type="http://schemas.openxmlformats.org/officeDocument/2006/relationships/image" Target="../media/image54.gi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5.gif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4540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38080" y="594360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00"/>
                </a:solidFill>
                <a:latin typeface="Laffayette Comic Pro"/>
              </a:rPr>
              <a:t>Onrustwekkende en gevaarlijke schoonheid</a:t>
            </a:r>
            <a:r>
              <a:rPr b="1" lang="fr-FR" sz="3200" spc="-1" strike="noStrike">
                <a:solidFill>
                  <a:srgbClr val="00ffff"/>
                </a:solidFill>
                <a:latin typeface="Laffayette Comic Pro"/>
              </a:rPr>
              <a:t> </a:t>
            </a:r>
            <a:r>
              <a:rPr b="1" lang="fr-FR" sz="3200" spc="-1" strike="noStrike">
                <a:solidFill>
                  <a:srgbClr val="ffff00"/>
                </a:solidFill>
                <a:latin typeface="Laffayette Comic Pro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3978360"/>
            <a:ext cx="74678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9900"/>
                </a:solidFill>
                <a:latin typeface="Laffayette Comic Pro"/>
              </a:rPr>
              <a:t>VULKAAN</a:t>
            </a:r>
            <a:r>
              <a:rPr b="1" lang="en-US" sz="5400" spc="-1" strike="noStrike">
                <a:solidFill>
                  <a:srgbClr val="ffffff"/>
                </a:solidFill>
                <a:latin typeface="Laffayette Comic Pro"/>
              </a:rPr>
              <a:t> </a:t>
            </a:r>
            <a:r>
              <a:rPr b="1" lang="en-US" sz="5400" spc="-1" strike="noStrike">
                <a:solidFill>
                  <a:srgbClr val="ff00ff"/>
                </a:solidFill>
                <a:latin typeface="Laffayette Comic Pro"/>
              </a:rPr>
              <a:t>EYJAFJALLAJÖKUL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4648320" y="0"/>
            <a:ext cx="2744640" cy="3429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38080" y="1066680"/>
            <a:ext cx="251460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ffff"/>
                </a:solidFill>
                <a:latin typeface="Laffayette Comic Pro"/>
              </a:rPr>
              <a:t>IJSLAND april 2010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  <p:sndAc>
      <p:stSnd>
        <p:snd r:embed="rId3" name="Harpe%20Le%20Monde-6.13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431640"/>
            <a:ext cx="9144000" cy="64263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76320" y="76320"/>
            <a:ext cx="236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© Olivier VANDEGIN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316240"/>
            <a:ext cx="24382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oto genomen op 10 km ten oosten van </a:t>
            </a:r>
            <a:r>
              <a:rPr b="1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volsvollu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op 25 km verwijderd van de krater van de </a:t>
            </a:r>
            <a:r>
              <a:rPr b="1" lang="fr-FR" sz="2000" spc="-1" strike="noStrike">
                <a:solidFill>
                  <a:srgbClr val="ff00ff"/>
                </a:solidFill>
                <a:latin typeface="Arial"/>
                <a:ea typeface="Arial"/>
              </a:rPr>
              <a:t>Eyjafjallajökul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op 18 april 201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6320" y="76320"/>
            <a:ext cx="23619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© </a:t>
            </a:r>
            <a:r>
              <a:rPr b="0" lang="fr-FR" sz="1200" spc="-1" strike="noStrike" u="sng">
                <a:solidFill>
                  <a:srgbClr val="ccccff"/>
                </a:solidFill>
                <a:uFillTx/>
                <a:latin typeface="AgentCLight"/>
                <a:ea typeface="Arial"/>
                <a:hlinkClick r:id="rId1"/>
              </a:rPr>
              <a:t>Olivier </a:t>
            </a:r>
            <a:r>
              <a:rPr b="0" lang="fr-FR" sz="1200" spc="-1" strike="noStrike" u="sng">
                <a:solidFill>
                  <a:srgbClr val="ccccff"/>
                </a:solidFill>
                <a:uFillTx/>
                <a:latin typeface="AgentCLight"/>
                <a:ea typeface="Arial"/>
                <a:hlinkClick r:id="rId2"/>
              </a:rPr>
              <a:t>Vandeginste</a:t>
            </a: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25560" y="0"/>
            <a:ext cx="911844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320" y="763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406440"/>
            <a:ext cx="9144000" cy="64515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6320" y="763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76320" y="763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76320" y="5987880"/>
            <a:ext cx="883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en auto waagt zich nabij </a:t>
            </a:r>
            <a:r>
              <a:rPr b="1" lang="fr-FR" sz="2000" spc="-1" strike="noStrike">
                <a:solidFill>
                  <a:srgbClr val="cc3399"/>
                </a:solidFill>
                <a:latin typeface="Arial"/>
                <a:ea typeface="Arial"/>
              </a:rPr>
              <a:t>Kirkjubaejarklaustur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, doorheen de aslaag die de grond overal bedekt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763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Photo AP / Oskarsson Om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438120"/>
            <a:ext cx="9144000" cy="5581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91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76320" y="763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Photo AP / Gauti Bryn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866960" y="6156360"/>
            <a:ext cx="5410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et dragen van een stofbril en een mondmasker is verplich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819000"/>
            <a:ext cx="8077320" cy="523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Op vrijdag 16 april net voor zonsondergang, barst de vulkaan </a:t>
            </a:r>
            <a:r>
              <a:rPr b="1" lang="fr-FR" sz="2800" spc="-1" strike="noStrike">
                <a:solidFill>
                  <a:srgbClr val="ff00ff"/>
                </a:solidFill>
                <a:latin typeface="Arial"/>
                <a:ea typeface="Arial"/>
              </a:rPr>
              <a:t>Eyjafjallajökull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in ‘t zuiden van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Arial"/>
                <a:ea typeface="Arial"/>
              </a:rPr>
              <a:t>Ijland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 uit vanonder een ijslaag, stuurt massas as de atmospheer in en veroorzaakt overstromingen door het plotse smelten van de ijska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Een wolk van vulkanisch stof drijft in dikke lagen af naar </a:t>
            </a:r>
            <a:r>
              <a:rPr b="0" lang="fr-FR" sz="9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fr-FR" sz="2800" spc="-1" strike="noStrike">
                <a:solidFill>
                  <a:srgbClr val="00ff00"/>
                </a:solidFill>
                <a:latin typeface="Arial"/>
                <a:ea typeface="Arial"/>
              </a:rPr>
              <a:t>Europa</a:t>
            </a:r>
            <a:r>
              <a:rPr b="0" lang="fr-FR" sz="2800" spc="-1" strike="noStrike">
                <a:solidFill>
                  <a:srgbClr val="ffffff"/>
                </a:solidFill>
                <a:latin typeface="Arial"/>
                <a:ea typeface="Arial"/>
              </a:rPr>
              <a:t>, legt alle vliegverkeer stil en provokeert paniek bij duizenden gestresseerde en ongeruste passagiers op zoek naar een oplossing voor hun terugkeer of onderdak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924680" y="6186600"/>
            <a:ext cx="1219320" cy="6714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Ingolfur Julius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43164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5029200"/>
            <a:ext cx="761760" cy="762120"/>
          </a:xfrm>
          <a:prstGeom prst="ellipse">
            <a:avLst/>
          </a:prstGeom>
          <a:noFill/>
          <a:ln w="4140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62120" y="60958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Gezien met téléobjectif : de hoeve gelegen aan de voet van de vulkaan </a:t>
            </a:r>
            <a:r>
              <a:rPr b="1" lang="fr-FR" sz="2000" spc="-1" strike="noStrike">
                <a:solidFill>
                  <a:srgbClr val="ff00ff"/>
                </a:solidFill>
                <a:latin typeface="Arial"/>
                <a:ea typeface="Arial"/>
              </a:rPr>
              <a:t>Eyjafjallajök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76320"/>
            <a:ext cx="358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Ingolfur Julius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600" y="64008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en boer probeert zijn paard naar de stal te breng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Ingolfur Julius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6095880"/>
            <a:ext cx="8229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 hulpdiensten helpen de eigenaars om het vulkanisch stof te verwijderen van hun da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320" y="7632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19040" y="6384960"/>
            <a:ext cx="830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en landbouwer bekijkt de vulkanische asneerslag op zijn er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320" y="7632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0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114480" y="6095880"/>
            <a:ext cx="8915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 boeren vormen groepjes om de veestapel te behouden van de blootstelling aan de toxische vulkaa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6320" y="763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Photo AP / Gauti Bryn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76320" y="76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419040"/>
            <a:ext cx="9144000" cy="64389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463680"/>
            <a:ext cx="9144000" cy="63943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76320" y="7632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76320" y="6156360"/>
            <a:ext cx="8991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ikke wolken van vulkanisch stof drijven af en bedekken enkele landbouwstreken van </a:t>
            </a:r>
            <a:r>
              <a:rPr b="1" lang="fr-FR" sz="2000" spc="-1" strike="noStrike">
                <a:solidFill>
                  <a:srgbClr val="00ffff"/>
                </a:solidFill>
                <a:latin typeface="Arial"/>
                <a:ea typeface="Arial"/>
              </a:rPr>
              <a:t>Ijs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76320"/>
            <a:ext cx="266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Photo AP / Gauti Bryn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610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5560" y="380880"/>
            <a:ext cx="9118440" cy="6477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76320" y="763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Ingolfur Julius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57216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76320" y="76320"/>
            <a:ext cx="350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 / AFP / Getty Imag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6320" y="76320"/>
            <a:ext cx="335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Photo AP / Gauti Brynj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6320" y="76320"/>
            <a:ext cx="579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récepteur satellite NERC Station, l'Université de Dundee, Ecoss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32280" y="2286000"/>
            <a:ext cx="3001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66"/>
                </a:solidFill>
                <a:latin typeface="Arial"/>
                <a:ea typeface="Arial"/>
              </a:rPr>
              <a:t>vulka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3300"/>
                </a:solidFill>
                <a:latin typeface="Arial"/>
                <a:ea typeface="Arial"/>
              </a:rPr>
              <a:t>Eyjafjallajöku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rot="7584000">
            <a:off x="3786480" y="3886560"/>
            <a:ext cx="1500480" cy="146160"/>
          </a:xfrm>
          <a:prstGeom prst="rightArrow">
            <a:avLst>
              <a:gd name="adj1" fmla="val 45037"/>
              <a:gd name="adj2" fmla="val 19990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9440" bIns="19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4343400"/>
            <a:ext cx="990720" cy="990720"/>
          </a:xfrm>
          <a:prstGeom prst="ellipse">
            <a:avLst/>
          </a:prstGeom>
          <a:noFill/>
          <a:ln w="507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76320" y="76320"/>
            <a:ext cx="304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76320" y="763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© Olivier VANDEGIN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6320" y="76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© Olivier VANDEGIN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19040" y="6156360"/>
            <a:ext cx="8305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ze luchtfoto toont een wirwar van rook en as van de vulkaan </a:t>
            </a:r>
            <a:r>
              <a:rPr b="1" lang="fr-FR" sz="2000" spc="-1" strike="noStrike">
                <a:solidFill>
                  <a:srgbClr val="ff00ff"/>
                </a:solidFill>
                <a:latin typeface="Arial"/>
                <a:ea typeface="Arial"/>
              </a:rPr>
              <a:t>Eyjafjallajökull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… ‘t is 17 april 2010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763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Kolbeins Halldo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913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76320" y="763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© Olivier VANDEGIN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20247" t="0" r="0" b="0"/>
          <a:stretch/>
        </p:blipFill>
        <p:spPr>
          <a:xfrm>
            <a:off x="0" y="457200"/>
            <a:ext cx="6564240" cy="64008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380880" y="5943600"/>
            <a:ext cx="518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c0000"/>
                </a:solidFill>
                <a:latin typeface="Arial"/>
                <a:ea typeface="Arial"/>
              </a:rPr>
              <a:t>Ontketening der natuur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500"/>
                            </p:stCondLst>
                            <p:childTnLst>
                              <p:par>
                                <p:cTn id="19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64008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320" y="7632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© Olivier VANDEGINST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228600" y="6400800"/>
            <a:ext cx="86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Feeëriek contrast met het noorderlicht 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320" y="76320"/>
            <a:ext cx="289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Coffrini FABRICE / AFP / Getty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11280" y="4797360"/>
            <a:ext cx="7772400" cy="825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  <a:ea typeface="Arial"/>
              </a:rPr>
              <a:t>In Europa, de zonsondergang in een hemel vol as, boven ‘Lac Léman’ in Zwitserl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blipFill rotWithShape="0">
            <a:blip r:embed="rId2">
              <a:alphaModFix amt="48000"/>
            </a:blip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5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1500"/>
                            </p:stCondLst>
                            <p:childTnLst>
                              <p:par>
                                <p:cTn id="23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32" dur="500" fill="hold"/>
                                        <p:tgtEl>
                                          <p:spTgt spid="15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35" dur="250" autoRev="1" fill="hold"/>
                                        <p:tgtEl>
                                          <p:spTgt spid="1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320" y="763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762120" y="6095880"/>
            <a:ext cx="7619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Stukken ijs, gevolg van de smelting van de ijskap, verzoorzaakt door de vulkanische uitbar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572000" y="719280"/>
            <a:ext cx="3139920" cy="27097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0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60958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Herstelling van een rijweg, beschadigd door de overstromingen als gevolg van het smelten van de ijskap door de vulkaanuitbar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76320"/>
            <a:ext cx="259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5881" r="0" b="0"/>
          <a:stretch/>
        </p:blipFill>
        <p:spPr>
          <a:xfrm>
            <a:off x="0" y="380880"/>
            <a:ext cx="9144000" cy="575964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64008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Deze luchtfoto toont de krater die as, rookwolken en lavadelen uitspuw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76320"/>
            <a:ext cx="3200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gentCLight"/>
                <a:ea typeface="Arial"/>
              </a:rPr>
              <a:t>(Photo AP Thorisson Arnar / / Helicopter.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2984" r="0" b="2984"/>
          <a:stretch/>
        </p:blipFill>
        <p:spPr>
          <a:xfrm>
            <a:off x="0" y="380880"/>
            <a:ext cx="9144000" cy="56721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533520" y="6095880"/>
            <a:ext cx="807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Een klein </a:t>
            </a:r>
            <a:r>
              <a:rPr b="1" lang="fr-FR" sz="2000" spc="-1" strike="noStrike">
                <a:solidFill>
                  <a:srgbClr val="00ffff"/>
                </a:solidFill>
                <a:latin typeface="Arial"/>
                <a:ea typeface="Arial"/>
              </a:rPr>
              <a:t>vliegtuig</a:t>
            </a:r>
            <a:r>
              <a:rPr b="0" lang="fr-FR" sz="2000" spc="-1" strike="noStrike">
                <a:solidFill>
                  <a:srgbClr val="ffffff"/>
                </a:solidFill>
                <a:latin typeface="Arial"/>
                <a:ea typeface="Arial"/>
              </a:rPr>
              <a:t> overvliegt de dikke wolken en de gevaarlijke uitstoot van gas en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6320" y="76320"/>
            <a:ext cx="2514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1447920"/>
            <a:ext cx="838080" cy="83808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6320" y="7632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gentCLight"/>
                <a:ea typeface="Arial"/>
              </a:rPr>
              <a:t>(REUTERS / Lucas Jacks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18:39:48Z</dcterms:created>
  <dc:creator/>
  <dc:description/>
  <dc:language>en-US</dc:language>
  <cp:lastModifiedBy>Smets</cp:lastModifiedBy>
  <dcterms:modified xsi:type="dcterms:W3CDTF">2011-02-23T19:43:09Z</dcterms:modified>
  <cp:revision>37</cp:revision>
  <dc:subject/>
  <dc:title>Présentation PowerPoint</dc:title>
</cp:coreProperties>
</file>