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54.gif" ContentType="image/gif"/>
  <Override PartName="/ppt/media/Harpe%20Le%20Monde-6.13.wav" ContentType="audio/x-wav"/>
  <Override PartName="/ppt/media/image26.jpeg" ContentType="image/jpeg"/>
  <Override PartName="/ppt/media/image5.jpeg" ContentType="image/jpeg"/>
  <Override PartName="/ppt/media/image3.gif" ContentType="image/gif"/>
  <Override PartName="/ppt/media/image25.jpeg" ContentType="image/jpeg"/>
  <Override PartName="/ppt/media/image2.png" ContentType="image/png"/>
  <Override PartName="/ppt/media/image4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6.jpeg" ContentType="image/jpeg"/>
  <Override PartName="/ppt/media/image53.gif" ContentType="image/gif"/>
  <Override PartName="/ppt/media/image56.png" ContentType="image/png"/>
  <Override PartName="/ppt/media/image45.jpeg" ContentType="image/jpeg"/>
  <Override PartName="/ppt/media/image55.gif" ContentType="image/gif"/>
  <Override PartName="/ppt/media/image28.jpeg" ContentType="image/jpeg"/>
  <Override PartName="/ppt/media/image51.jpeg" ContentType="image/jpeg"/>
  <Override PartName="/ppt/media/image36.jpeg" ContentType="image/jpeg"/>
  <Override PartName="/ppt/media/image11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72A-47B5-408D-B369-545A61CE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A7C-BE95-4A77-BC3B-48B24B9F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1AC-ECF0-4E63-9EEA-CB528BE4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E4E-3FF8-4117-95EE-5DB7756E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128-5BD4-41BC-962C-6097BA10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4F2-2259-478D-9BFC-312076C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50E-0095-4E82-877C-C769D2F2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5F5-EF17-4BB3-8FD3-2D5915A3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3F9-BEB8-406A-9E87-F9F274CA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C91-6A4F-40B5-8A54-B7BA514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0DA-BA19-4A67-B27D-57E2F585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793-B7D8-4ADD-A657-02B9D555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3678-BCF0-4A62-B686-1CE5385D0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Harpe%20Le%20Monde-6.13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.atmospheres.be/" TargetMode="External"/><Relationship Id="rId2" Type="http://schemas.openxmlformats.org/officeDocument/2006/relationships/hyperlink" Target="http://blog.atmospheres.be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3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454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59436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Laffayette Comic Pro"/>
              </a:rPr>
              <a:t>Onrustwekkende en gevaarlijke schoonheid</a:t>
            </a:r>
            <a:r>
              <a:rPr b="1" lang="fr-FR" sz="3200" spc="-1" strike="noStrike">
                <a:solidFill>
                  <a:srgbClr val="00ffff"/>
                </a:solidFill>
                <a:latin typeface="Laffayette Comic Pro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Laffayette Comic Pro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978360"/>
            <a:ext cx="74678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Laffayette Comic Pro"/>
              </a:rPr>
              <a:t>VULKAAN</a:t>
            </a:r>
            <a:r>
              <a:rPr b="1" lang="en-US" sz="5400" spc="-1" strike="noStrike">
                <a:solidFill>
                  <a:srgbClr val="ffffff"/>
                </a:solidFill>
                <a:latin typeface="Laffayette Comic Pro"/>
              </a:rPr>
              <a:t> </a:t>
            </a:r>
            <a:r>
              <a:rPr b="1" lang="en-US" sz="5400" spc="-1" strike="noStrike">
                <a:solidFill>
                  <a:srgbClr val="ff00ff"/>
                </a:solidFill>
                <a:latin typeface="Laffayette Comic Pro"/>
              </a:rPr>
              <a:t>EYJAFJALLAJÖKU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274464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1066680"/>
            <a:ext cx="2514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Laffayette Comic Pro"/>
              </a:rPr>
              <a:t>IJSLAND april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Harpe%20Le%20Monde-6.1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31640"/>
            <a:ext cx="9144000" cy="642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320" y="7632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Olivier VANDEGIN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316240"/>
            <a:ext cx="2438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oto genomen op 10 km ten oosten van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volsvollu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op 25 km verwijderd van de krater van de </a:t>
            </a:r>
            <a:r>
              <a:rPr b="1" lang="fr-FR" sz="2000" spc="-1" strike="noStrike">
                <a:solidFill>
                  <a:srgbClr val="ff00ff"/>
                </a:solidFill>
                <a:latin typeface="Arial"/>
                <a:ea typeface="Arial"/>
              </a:rPr>
              <a:t>Eyjafjallajökul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op 18 april 20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320" y="76320"/>
            <a:ext cx="2361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</a:t>
            </a:r>
            <a:r>
              <a:rPr b="0" lang="fr-FR" sz="1200" spc="-1" strike="noStrike" u="sng">
                <a:solidFill>
                  <a:srgbClr val="ccccff"/>
                </a:solidFill>
                <a:uFillTx/>
                <a:latin typeface="AgentCLight"/>
                <a:ea typeface="Arial"/>
                <a:hlinkClick r:id="rId1"/>
              </a:rPr>
              <a:t>Olivier </a:t>
            </a:r>
            <a:r>
              <a:rPr b="0" lang="fr-FR" sz="1200" spc="-1" strike="noStrike" u="sng">
                <a:solidFill>
                  <a:srgbClr val="ccccff"/>
                </a:solidFill>
                <a:uFillTx/>
                <a:latin typeface="AgentCLight"/>
                <a:ea typeface="Arial"/>
                <a:hlinkClick r:id="rId2"/>
              </a:rPr>
              <a:t>Vandeginste</a:t>
            </a: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" y="0"/>
            <a:ext cx="9118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763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451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320" y="763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320" y="763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5987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en auto waagt zich nabij </a:t>
            </a:r>
            <a:r>
              <a:rPr b="1" lang="fr-FR" sz="2000" spc="-1" strike="noStrike">
                <a:solidFill>
                  <a:srgbClr val="cc3399"/>
                </a:solidFill>
                <a:latin typeface="Arial"/>
                <a:ea typeface="Arial"/>
              </a:rPr>
              <a:t>Kirkjubaejarklaustu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, doorheen de aslaag die de grond overal bedek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763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/ Oskarsson Om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58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320" y="763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/ Gauti Bryn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66960" y="61563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et dragen van een stofbril en een mondmasker is verp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819000"/>
            <a:ext cx="80773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Op vrijdag 16 april net voor zonsondergang, barst de vulkaan </a:t>
            </a:r>
            <a:r>
              <a:rPr b="1" lang="fr-FR" sz="2800" spc="-1" strike="noStrike">
                <a:solidFill>
                  <a:srgbClr val="ff00ff"/>
                </a:solidFill>
                <a:latin typeface="Arial"/>
                <a:ea typeface="Arial"/>
              </a:rPr>
              <a:t>Eyjafjallajökull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in ‘t zuiden van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Arial"/>
                <a:ea typeface="Arial"/>
              </a:rPr>
              <a:t>Ijland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uit vanonder een ijslaag, stuurt massas as de atmospheer in en veroorzaakt overstromingen door het plotse smelten van de ijska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Een wolk van vulkanisch stof drijft in dikke lagen af naar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800" spc="-1" strike="noStrike">
                <a:solidFill>
                  <a:srgbClr val="00ff00"/>
                </a:solidFill>
                <a:latin typeface="Arial"/>
                <a:ea typeface="Arial"/>
              </a:rPr>
              <a:t>Europa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, legt alle vliegverkeer stil en provokeert paniek bij duizenden gestresseerde en ongeruste passagiers op zoek naar een oplossing voor hun terugkeer of onderdak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4680" y="6186600"/>
            <a:ext cx="1219320" cy="671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Ingolfur Julius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3164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029200"/>
            <a:ext cx="761760" cy="762120"/>
          </a:xfrm>
          <a:prstGeom prst="ellipse">
            <a:avLst/>
          </a:prstGeom>
          <a:noFill/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60958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Gezien met téléobjectif : de hoeve gelegen aan de voet van de vulkaan </a:t>
            </a:r>
            <a:r>
              <a:rPr b="1" lang="fr-FR" sz="2000" spc="-1" strike="noStrike">
                <a:solidFill>
                  <a:srgbClr val="ff00ff"/>
                </a:solidFill>
                <a:latin typeface="Arial"/>
                <a:ea typeface="Arial"/>
              </a:rPr>
              <a:t>Eyjafjallajök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Ingolfur Julius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4008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en boer probeert zijn paard naar de stal te b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Ingolfur Julius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6095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 hulpdiensten helpen de eigenaars om het vulkanisch stof te verwijderen van hun d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9040" y="638496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en landbouwer bekijkt de vulkanische asneerslag op zijn 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7632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480" y="609588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 boeren vormen groepjes om de veestapel te behouden van de blootstelling aan de toxische vulka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763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/ Gauti Bryn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76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463680"/>
            <a:ext cx="9144000" cy="6394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320" y="7632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6156360"/>
            <a:ext cx="89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ikke wolken van vulkanisch stof drijven af en bedekken enkele landbouwstreken van </a:t>
            </a:r>
            <a:r>
              <a:rPr b="1" lang="fr-FR" sz="2000" spc="-1" strike="noStrike">
                <a:solidFill>
                  <a:srgbClr val="00ffff"/>
                </a:solidFill>
                <a:latin typeface="Arial"/>
                <a:ea typeface="Arial"/>
              </a:rPr>
              <a:t>Ij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/ Gauti Bryn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560" y="380880"/>
            <a:ext cx="9118440" cy="6477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320" y="763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Ingolfur Julius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320" y="7632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320" y="763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/ Gauti Bryn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320" y="76320"/>
            <a:ext cx="57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récepteur satellite NERC Station, l'Université de Dundee, Ecos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32280" y="2286000"/>
            <a:ext cx="300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  <a:ea typeface="Arial"/>
              </a:rPr>
              <a:t>vulk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Arial"/>
                <a:ea typeface="Arial"/>
              </a:rPr>
              <a:t>Eyjafjallajök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7584000">
            <a:off x="3786480" y="3886560"/>
            <a:ext cx="1500480" cy="146160"/>
          </a:xfrm>
          <a:prstGeom prst="rightArrow">
            <a:avLst>
              <a:gd name="adj1" fmla="val 45037"/>
              <a:gd name="adj2" fmla="val 1999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4343400"/>
            <a:ext cx="990720" cy="99072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320" y="76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Olivier VANDEGIN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6320" y="76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Olivier VANDEGIN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9040" y="61563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ze luchtfoto toont een wirwar van rook en as van de vulkaan </a:t>
            </a:r>
            <a:r>
              <a:rPr b="1" lang="fr-FR" sz="2000" spc="-1" strike="noStrike">
                <a:solidFill>
                  <a:srgbClr val="ff00ff"/>
                </a:solidFill>
                <a:latin typeface="Arial"/>
                <a:ea typeface="Arial"/>
              </a:rPr>
              <a:t>Eyjafjallajökul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… ‘t is 17 april 201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763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763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Olivier VANDEGIN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0247" t="0" r="0" b="0"/>
          <a:stretch/>
        </p:blipFill>
        <p:spPr>
          <a:xfrm>
            <a:off x="0" y="457200"/>
            <a:ext cx="6564240" cy="6400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59436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c0000"/>
                </a:solidFill>
                <a:latin typeface="Arial"/>
                <a:ea typeface="Arial"/>
              </a:rPr>
              <a:t>Ontketening der natuu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320" y="763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Olivier VANDEGIN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64008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eeëriek contrast met het noorderlicht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320" y="76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Coffrini FABRICE / AFP / Getty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1280" y="4797360"/>
            <a:ext cx="7772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In Europa, de zonsondergang in een hemel vol as, boven ‘Lac Léman’ in Zwits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320" y="76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60958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Stukken ijs, gevolg van de smelting van de ijskap, verzoorzaakt door de vulkanische uitbar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719280"/>
            <a:ext cx="3139920" cy="270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095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erstelling van een rijweg, beschadigd door de overstromingen als gevolg van het smelten van de ijskap door de vulkaanuitbar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7632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5881" r="0" b="0"/>
          <a:stretch/>
        </p:blipFill>
        <p:spPr>
          <a:xfrm>
            <a:off x="0" y="380880"/>
            <a:ext cx="9144000" cy="575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ze luchtfoto toont de krater die as, rookwolken en lavadelen uitspuw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763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Thorisson Arnar / / Helicopter.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2984" r="0" b="2984"/>
          <a:stretch/>
        </p:blipFill>
        <p:spPr>
          <a:xfrm>
            <a:off x="0" y="380880"/>
            <a:ext cx="9144000" cy="5672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60958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en klein </a:t>
            </a:r>
            <a:r>
              <a:rPr b="1" lang="fr-FR" sz="2000" spc="-1" strike="noStrike">
                <a:solidFill>
                  <a:srgbClr val="00ffff"/>
                </a:solidFill>
                <a:latin typeface="Arial"/>
                <a:ea typeface="Arial"/>
              </a:rPr>
              <a:t>vliegtuig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overvliegt de dikke wolken en de gevaarlijke uitstoot van gas en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447920"/>
            <a:ext cx="83808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76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18:39:48Z</dcterms:created>
  <dc:creator/>
  <dc:description/>
  <dc:language>en-US</dc:language>
  <cp:lastModifiedBy>Smets</cp:lastModifiedBy>
  <dcterms:modified xsi:type="dcterms:W3CDTF">2011-02-23T19:43:09Z</dcterms:modified>
  <cp:revision>37</cp:revision>
  <dc:subject/>
  <dc:title>Présentation PowerPoint</dc:title>
</cp:coreProperties>
</file>