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60C-3E0E-4AC8-8682-23B3445D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E56-867B-4C51-8A8F-7155E3C0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07B-4854-4E02-A63F-31FC974C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AFD-AE1B-4396-88D5-4BF93D96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639-C5E3-443E-BC24-DA10ED80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518-7A30-4218-8079-CC784314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3E7-0DC7-482A-98FF-4A7BE19F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33F-64D8-4A0D-9273-19B7F06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5E6-BCE5-4475-B79D-85FA429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042-F0C5-441F-99A4-6EB689E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BD3-FBA6-43C8-802B-0B3C3F0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795-B243-4900-8F93-05D789F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E51BE-5A1A-4EC5-AFC3-B682116034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D18BA-B2AA-4D5D-97E1-C87CFB7F62F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02:26Z</dcterms:created>
  <dc:creator>최봉수</dc:creator>
  <dc:description/>
  <dc:language>en-US</dc:language>
  <cp:lastModifiedBy>맛있다 군만두</cp:lastModifiedBy>
  <dcterms:modified xsi:type="dcterms:W3CDTF">2024-10-01T03:09:28Z</dcterms:modified>
  <cp:revision>3</cp:revision>
  <dc:subject/>
  <dc:title>슬라이드 1</dc:title>
</cp:coreProperties>
</file>