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708-E93D-421D-9AC6-62F2D220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02A-4FB6-47DC-9DCB-4ED4BD7E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378-C080-464E-B03B-03F1D6D6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153-EF1D-4FC4-880C-2AD55C88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E65-42D9-4894-9FC3-A552F41A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D86-984C-4302-B3A6-E2D963F2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890-1F5F-49A5-B905-BA1B58FA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64A-3F6D-44A1-A9BD-63DE0FD0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D67-0F39-41A3-9753-53CB4051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990-94CB-421B-A618-B2305D44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DEA-835C-498B-B068-F943718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7C1-F93B-458E-BF44-554479DF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66FD0-1F86-487F-8815-F03EF1F786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9822D-53C6-4C1D-8F10-988BA408DF8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02:26Z</dcterms:created>
  <dc:creator>최봉수</dc:creator>
  <dc:description/>
  <dc:language>en-US</dc:language>
  <cp:lastModifiedBy>맛있다 군만두</cp:lastModifiedBy>
  <dcterms:modified xsi:type="dcterms:W3CDTF">2024-10-01T03:09:28Z</dcterms:modified>
  <cp:revision>3</cp:revision>
  <dc:subject/>
  <dc:title>슬라이드 1</dc:title>
</cp:coreProperties>
</file>